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9B2-3527-4FC8-827A-66696679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7A2-0D52-46AF-A48A-8E3F735D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B65-59A2-4968-AE41-08C0C17C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EBF-DE7A-4D95-81BA-F2E1A16A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841-5746-4A3D-AF91-041CAE28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713-2D35-4DED-875C-E0F31059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29F-BA48-46F0-BE66-82FE8050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86B-AAB1-443D-95E3-4B95D4A0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347-C43C-4CEA-A78C-D2126EF8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820-A19B-435B-A213-02662C57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BFC-31BA-4303-990F-76D2D905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434-7C1B-436F-84AD-BD083703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199B-7014-4EB7-81CE-39462D63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deo.nationalgeographic.com/video/player/kids/history-kids/native-americans-kids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80880"/>
            <a:ext cx="8610480" cy="283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Comic Sans MS"/>
              </a:rPr>
              <a:t>A Look into our Nations Native America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886120" y="3260880"/>
            <a:ext cx="2933280" cy="2832840"/>
            <a:chOff x="2886120" y="3260880"/>
            <a:chExt cx="2933280" cy="2832840"/>
          </a:xfrm>
        </p:grpSpPr>
        <p:grpSp>
          <p:nvGrpSpPr>
            <p:cNvPr id="43" name=""/>
            <p:cNvGrpSpPr/>
            <p:nvPr/>
          </p:nvGrpSpPr>
          <p:grpSpPr>
            <a:xfrm>
              <a:off x="3078000" y="4681440"/>
              <a:ext cx="2550960" cy="1412280"/>
              <a:chOff x="3078000" y="4681440"/>
              <a:chExt cx="2550960" cy="141228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78000" y="4681440"/>
                <a:ext cx="1275840" cy="141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3840" y="4681440"/>
                <a:ext cx="1275120" cy="141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" name=""/>
            <p:cNvGrpSpPr/>
            <p:nvPr/>
          </p:nvGrpSpPr>
          <p:grpSpPr>
            <a:xfrm>
              <a:off x="4790880" y="3260880"/>
              <a:ext cx="380520" cy="1370880"/>
              <a:chOff x="4790880" y="3260880"/>
              <a:chExt cx="380520" cy="137088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4790880" y="3351960"/>
                <a:ext cx="380520" cy="1279800"/>
                <a:chOff x="4790880" y="3351960"/>
                <a:chExt cx="380520" cy="127980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4998240" y="3351960"/>
                  <a:ext cx="173160" cy="1279800"/>
                  <a:chOff x="4998240" y="3351960"/>
                  <a:chExt cx="173160" cy="12798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4998600" y="3555720"/>
                    <a:ext cx="0" cy="107604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>
                    <a:off x="4998240" y="3397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 flipH="1">
                    <a:off x="4998240" y="34434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flipH="1">
                    <a:off x="4998240" y="34887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>
                    <a:off x="4998240" y="35348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flipH="1">
                    <a:off x="4998240" y="35805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flipH="1">
                    <a:off x="4998240" y="36259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>
                    <a:off x="4998240" y="36720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flipH="1">
                    <a:off x="4998240" y="37177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flipH="1">
                    <a:off x="4998240" y="37630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>
                    <a:off x="4998240" y="38088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 flipH="1">
                    <a:off x="4998240" y="38548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flipH="1">
                    <a:off x="4998240" y="38548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>
                    <a:off x="4998240" y="3900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flipH="1">
                    <a:off x="4998240" y="3900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flipH="1">
                    <a:off x="4998240" y="3945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>
                    <a:off x="4998240" y="3945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flipH="1">
                    <a:off x="4998240" y="39920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flipH="1">
                    <a:off x="4998240" y="40374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>
                    <a:off x="4998240" y="40831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flipH="1">
                    <a:off x="4998240" y="3351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4790880" y="3351960"/>
                  <a:ext cx="173160" cy="1279800"/>
                  <a:chOff x="4790880" y="3351960"/>
                  <a:chExt cx="173160" cy="127980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4963680" y="3555720"/>
                    <a:ext cx="0" cy="107604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4790880" y="3397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4790880" y="34434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4790880" y="34887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4790880" y="35348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790880" y="35805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4790880" y="36259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790880" y="36720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4790880" y="37177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790880" y="37630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4790880" y="38088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4790880" y="38548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4790880" y="38548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4790880" y="3900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4790880" y="3900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4790880" y="3945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790880" y="3945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4790880" y="39920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4790880" y="40374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4790880" y="40831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4790880" y="3351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" name=""/>
              <p:cNvGrpSpPr/>
              <p:nvPr/>
            </p:nvGrpSpPr>
            <p:grpSpPr>
              <a:xfrm>
                <a:off x="4811400" y="3260880"/>
                <a:ext cx="325800" cy="325440"/>
                <a:chOff x="4811400" y="3260880"/>
                <a:chExt cx="325800" cy="325440"/>
              </a:xfrm>
            </p:grpSpPr>
            <p:sp>
              <p:nvSpPr>
                <p:cNvPr id="93" name=""/>
                <p:cNvSpPr/>
                <p:nvPr/>
              </p:nvSpPr>
              <p:spPr>
                <a:xfrm flipV="1">
                  <a:off x="4980600" y="3260880"/>
                  <a:ext cx="0" cy="325440"/>
                </a:xfrm>
                <a:prstGeom prst="line">
                  <a:avLst/>
                </a:prstGeom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" name=""/>
                <p:cNvGrpSpPr/>
                <p:nvPr/>
              </p:nvGrpSpPr>
              <p:grpSpPr>
                <a:xfrm>
                  <a:off x="4811400" y="3332160"/>
                  <a:ext cx="325800" cy="249120"/>
                  <a:chOff x="4811400" y="3332160"/>
                  <a:chExt cx="325800" cy="249120"/>
                </a:xfrm>
              </p:grpSpPr>
              <p:grpSp>
                <p:nvGrpSpPr>
                  <p:cNvPr id="95" name=""/>
                  <p:cNvGrpSpPr/>
                  <p:nvPr/>
                </p:nvGrpSpPr>
                <p:grpSpPr>
                  <a:xfrm>
                    <a:off x="4974840" y="3332160"/>
                    <a:ext cx="162360" cy="249120"/>
                    <a:chOff x="4974840" y="3332160"/>
                    <a:chExt cx="162360" cy="24912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 flipV="1">
                      <a:off x="4974840" y="3332160"/>
                      <a:ext cx="162360" cy="24912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 flipV="1">
                      <a:off x="4974840" y="3370680"/>
                      <a:ext cx="54000" cy="21024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" name=""/>
                  <p:cNvGrpSpPr/>
                  <p:nvPr/>
                </p:nvGrpSpPr>
                <p:grpSpPr>
                  <a:xfrm>
                    <a:off x="4811400" y="3332160"/>
                    <a:ext cx="162360" cy="249120"/>
                    <a:chOff x="4811400" y="3332160"/>
                    <a:chExt cx="162360" cy="24912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 flipH="1" flipV="1">
                      <a:off x="4811400" y="3332160"/>
                      <a:ext cx="162360" cy="24912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 flipH="1" flipV="1">
                      <a:off x="4919760" y="3370680"/>
                      <a:ext cx="54000" cy="21024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1" name=""/>
            <p:cNvGrpSpPr/>
            <p:nvPr/>
          </p:nvGrpSpPr>
          <p:grpSpPr>
            <a:xfrm>
              <a:off x="5438880" y="3417840"/>
              <a:ext cx="380520" cy="1370880"/>
              <a:chOff x="5438880" y="3417840"/>
              <a:chExt cx="380520" cy="137088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5438880" y="3508920"/>
                <a:ext cx="380520" cy="1279800"/>
                <a:chOff x="5438880" y="3508920"/>
                <a:chExt cx="380520" cy="127980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5646240" y="3508920"/>
                  <a:ext cx="173160" cy="1279800"/>
                  <a:chOff x="5646240" y="3508920"/>
                  <a:chExt cx="173160" cy="127980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5646600" y="3712680"/>
                    <a:ext cx="0" cy="10760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5646240" y="35546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>
                    <a:off x="5646240" y="36003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>
                    <a:off x="5646240" y="36457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H="1">
                    <a:off x="5646240" y="36918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646240" y="37375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>
                    <a:off x="5646240" y="37828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5646240" y="3828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>
                    <a:off x="5646240" y="3874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H="1">
                    <a:off x="5646240" y="39200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flipH="1">
                    <a:off x="5646240" y="39657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5646240" y="40118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H="1">
                    <a:off x="5646240" y="40118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5646240" y="40572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>
                    <a:off x="5646240" y="40572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H="1">
                    <a:off x="5646240" y="41029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5646240" y="41029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>
                    <a:off x="5646240" y="41490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>
                    <a:off x="5646240" y="41943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>
                    <a:off x="5646240" y="42400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>
                    <a:off x="5646240" y="35089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5438880" y="3508920"/>
                  <a:ext cx="173160" cy="1279800"/>
                  <a:chOff x="5438880" y="3508920"/>
                  <a:chExt cx="173160" cy="127980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5611680" y="3712680"/>
                    <a:ext cx="0" cy="10760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438880" y="35546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438880" y="36003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438880" y="36457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438880" y="36918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438880" y="37375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5438880" y="37828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438880" y="3828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438880" y="3874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438880" y="39200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438880" y="39657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438880" y="40118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438880" y="40118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438880" y="40572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438880" y="40572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438880" y="41029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438880" y="41029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438880" y="41490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438880" y="41943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438880" y="42400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438880" y="35089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7" name=""/>
              <p:cNvGrpSpPr/>
              <p:nvPr/>
            </p:nvGrpSpPr>
            <p:grpSpPr>
              <a:xfrm>
                <a:off x="5459400" y="3417840"/>
                <a:ext cx="325800" cy="325440"/>
                <a:chOff x="5459400" y="3417840"/>
                <a:chExt cx="32580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 flipV="1">
                  <a:off x="5628600" y="3417840"/>
                  <a:ext cx="0" cy="325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5459400" y="3489120"/>
                  <a:ext cx="325800" cy="249120"/>
                  <a:chOff x="5459400" y="3489120"/>
                  <a:chExt cx="325800" cy="249120"/>
                </a:xfrm>
              </p:grpSpPr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5622840" y="3489120"/>
                    <a:ext cx="162360" cy="249120"/>
                    <a:chOff x="5622840" y="3489120"/>
                    <a:chExt cx="162360" cy="24912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 flipV="1">
                      <a:off x="5622840" y="3489120"/>
                      <a:ext cx="162360" cy="2491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flipV="1">
                      <a:off x="5622840" y="3527640"/>
                      <a:ext cx="54000" cy="21024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5459400" y="3489120"/>
                    <a:ext cx="162360" cy="249120"/>
                    <a:chOff x="5459400" y="3489120"/>
                    <a:chExt cx="162360" cy="24912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flipH="1" flipV="1">
                      <a:off x="5459400" y="3489120"/>
                      <a:ext cx="162360" cy="2491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flipH="1" flipV="1">
                      <a:off x="5567760" y="3527640"/>
                      <a:ext cx="54000" cy="21024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6" name=""/>
            <p:cNvGrpSpPr/>
            <p:nvPr/>
          </p:nvGrpSpPr>
          <p:grpSpPr>
            <a:xfrm>
              <a:off x="4181400" y="3459240"/>
              <a:ext cx="380520" cy="1370880"/>
              <a:chOff x="4181400" y="3459240"/>
              <a:chExt cx="380520" cy="137088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4181400" y="3550320"/>
                <a:ext cx="380520" cy="1279800"/>
                <a:chOff x="4181400" y="3550320"/>
                <a:chExt cx="380520" cy="127980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4388760" y="3550320"/>
                  <a:ext cx="173160" cy="1279800"/>
                  <a:chOff x="4388760" y="3550320"/>
                  <a:chExt cx="173160" cy="12798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4389120" y="3754080"/>
                    <a:ext cx="0" cy="10760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4388760" y="35960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>
                    <a:off x="4388760" y="36417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>
                    <a:off x="4388760" y="36871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4388760" y="37332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>
                    <a:off x="4388760" y="37789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>
                    <a:off x="4388760" y="38242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4388760" y="38703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>
                    <a:off x="4388760" y="39160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>
                    <a:off x="4388760" y="39614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>
                    <a:off x="4388760" y="40071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4388760" y="4053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>
                    <a:off x="4388760" y="4053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>
                    <a:off x="4388760" y="40986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>
                    <a:off x="4388760" y="40986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>
                    <a:off x="4388760" y="41443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4388760" y="41443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>
                    <a:off x="4388760" y="41904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>
                    <a:off x="4388760" y="42357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>
                    <a:off x="4388760" y="42814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>
                    <a:off x="4388760" y="35503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4181400" y="3550320"/>
                  <a:ext cx="173160" cy="1279800"/>
                  <a:chOff x="4181400" y="3550320"/>
                  <a:chExt cx="173160" cy="12798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4354200" y="3754080"/>
                    <a:ext cx="0" cy="10760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181400" y="35960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181400" y="36417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181400" y="36871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181400" y="37332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181400" y="37789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81400" y="38242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181400" y="38703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81400" y="39160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181400" y="39614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181400" y="40071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181400" y="4053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181400" y="4053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181400" y="40986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181400" y="40986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181400" y="41443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181400" y="41443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181400" y="41904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181400" y="42357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4181400" y="42814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4181400" y="35503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4201920" y="3459240"/>
                <a:ext cx="325800" cy="325440"/>
                <a:chOff x="4201920" y="3459240"/>
                <a:chExt cx="325800" cy="325440"/>
              </a:xfrm>
            </p:grpSpPr>
            <p:sp>
              <p:nvSpPr>
                <p:cNvPr id="203" name=""/>
                <p:cNvSpPr/>
                <p:nvPr/>
              </p:nvSpPr>
              <p:spPr>
                <a:xfrm flipV="1">
                  <a:off x="4371120" y="3459240"/>
                  <a:ext cx="0" cy="325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4201920" y="3530520"/>
                  <a:ext cx="325800" cy="249120"/>
                  <a:chOff x="4201920" y="3530520"/>
                  <a:chExt cx="325800" cy="24912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4365360" y="3530520"/>
                    <a:ext cx="162360" cy="249120"/>
                    <a:chOff x="4365360" y="3530520"/>
                    <a:chExt cx="162360" cy="24912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flipV="1">
                      <a:off x="4365360" y="3530520"/>
                      <a:ext cx="162360" cy="2491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flipV="1">
                      <a:off x="4365360" y="3569040"/>
                      <a:ext cx="54000" cy="21024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4201920" y="3530520"/>
                    <a:ext cx="162360" cy="249120"/>
                    <a:chOff x="4201920" y="3530520"/>
                    <a:chExt cx="162360" cy="24912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 flipH="1" flipV="1">
                      <a:off x="4201920" y="3530520"/>
                      <a:ext cx="162360" cy="2491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flipH="1" flipV="1">
                      <a:off x="4310280" y="3569040"/>
                      <a:ext cx="54000" cy="21024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1" name=""/>
            <p:cNvGrpSpPr/>
            <p:nvPr/>
          </p:nvGrpSpPr>
          <p:grpSpPr>
            <a:xfrm>
              <a:off x="2886120" y="3521160"/>
              <a:ext cx="380520" cy="1370880"/>
              <a:chOff x="2886120" y="3521160"/>
              <a:chExt cx="380520" cy="137088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2886120" y="3612240"/>
                <a:ext cx="380520" cy="1279800"/>
                <a:chOff x="2886120" y="3612240"/>
                <a:chExt cx="380520" cy="12798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093480" y="3612240"/>
                  <a:ext cx="173160" cy="1279800"/>
                  <a:chOff x="3093480" y="3612240"/>
                  <a:chExt cx="173160" cy="12798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093840" y="3816000"/>
                    <a:ext cx="0" cy="10760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3093480" y="3657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3093480" y="3703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>
                    <a:off x="3093480" y="37490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>
                    <a:off x="3093480" y="37951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>
                    <a:off x="3093480" y="38408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>
                    <a:off x="3093480" y="38862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3093480" y="39322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>
                    <a:off x="3093480" y="39780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>
                    <a:off x="3093480" y="40233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>
                    <a:off x="3093480" y="40690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>
                    <a:off x="3093480" y="41151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>
                    <a:off x="3093480" y="41151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>
                    <a:off x="3093480" y="41605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3093480" y="41605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>
                    <a:off x="3093480" y="4206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>
                    <a:off x="3093480" y="4206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>
                    <a:off x="3093480" y="42523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>
                    <a:off x="3093480" y="4297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>
                    <a:off x="3093480" y="43434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>
                    <a:off x="3093480" y="3612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886120" y="3612240"/>
                  <a:ext cx="173160" cy="1279800"/>
                  <a:chOff x="2886120" y="3612240"/>
                  <a:chExt cx="173160" cy="12798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3058920" y="3816000"/>
                    <a:ext cx="0" cy="10760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886120" y="3657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886120" y="3703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886120" y="37490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886120" y="37951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886120" y="38408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886120" y="38862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886120" y="39322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86120" y="39780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86120" y="40233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886120" y="40690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886120" y="41151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886120" y="41151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886120" y="41605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886120" y="41605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886120" y="4206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886120" y="4206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886120" y="42523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886120" y="4297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886120" y="43434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886120" y="36122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" name=""/>
              <p:cNvGrpSpPr/>
              <p:nvPr/>
            </p:nvGrpSpPr>
            <p:grpSpPr>
              <a:xfrm>
                <a:off x="2906640" y="3521160"/>
                <a:ext cx="325800" cy="325440"/>
                <a:chOff x="2906640" y="3521160"/>
                <a:chExt cx="325800" cy="325440"/>
              </a:xfrm>
            </p:grpSpPr>
            <p:sp>
              <p:nvSpPr>
                <p:cNvPr id="258" name=""/>
                <p:cNvSpPr/>
                <p:nvPr/>
              </p:nvSpPr>
              <p:spPr>
                <a:xfrm flipV="1">
                  <a:off x="3075840" y="3521160"/>
                  <a:ext cx="0" cy="325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2906640" y="3592440"/>
                  <a:ext cx="325800" cy="249120"/>
                  <a:chOff x="2906640" y="3592440"/>
                  <a:chExt cx="325800" cy="249120"/>
                </a:xfrm>
              </p:grpSpPr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70080" y="3592440"/>
                    <a:ext cx="162360" cy="249120"/>
                    <a:chOff x="3070080" y="3592440"/>
                    <a:chExt cx="162360" cy="2491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V="1">
                      <a:off x="3070080" y="3592440"/>
                      <a:ext cx="162360" cy="2491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V="1">
                      <a:off x="3070080" y="3630960"/>
                      <a:ext cx="54000" cy="21024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906640" y="3592440"/>
                    <a:ext cx="162360" cy="249120"/>
                    <a:chOff x="2906640" y="3592440"/>
                    <a:chExt cx="162360" cy="249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flipV="1">
                      <a:off x="2906640" y="3592440"/>
                      <a:ext cx="162360" cy="2491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flipV="1">
                      <a:off x="3015000" y="3630960"/>
                      <a:ext cx="54000" cy="21024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6" name=""/>
            <p:cNvGrpSpPr/>
            <p:nvPr/>
          </p:nvGrpSpPr>
          <p:grpSpPr>
            <a:xfrm>
              <a:off x="3495600" y="3306600"/>
              <a:ext cx="380520" cy="1370880"/>
              <a:chOff x="3495600" y="3306600"/>
              <a:chExt cx="380520" cy="13708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3495600" y="3397680"/>
                <a:ext cx="380520" cy="1279800"/>
                <a:chOff x="3495600" y="3397680"/>
                <a:chExt cx="380520" cy="127980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3702960" y="3397680"/>
                  <a:ext cx="173160" cy="1279800"/>
                  <a:chOff x="3702960" y="3397680"/>
                  <a:chExt cx="173160" cy="1279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703320" y="3601440"/>
                    <a:ext cx="0" cy="107604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>
                    <a:off x="3702960" y="34434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>
                    <a:off x="3702960" y="34891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>
                    <a:off x="3702960" y="35344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>
                    <a:off x="3702960" y="35805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3702960" y="36262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>
                    <a:off x="3702960" y="36716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>
                    <a:off x="3702960" y="37177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>
                    <a:off x="3702960" y="37634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>
                    <a:off x="3702960" y="38088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>
                    <a:off x="3702960" y="38545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>
                    <a:off x="3702960" y="39006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>
                    <a:off x="3702960" y="39006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>
                    <a:off x="3702960" y="3945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>
                    <a:off x="3702960" y="3945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>
                    <a:off x="3702960" y="3991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>
                    <a:off x="3702960" y="3991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>
                    <a:off x="3702960" y="40377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3702960" y="40831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>
                    <a:off x="3702960" y="41288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3702960" y="3397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3495600" y="3397680"/>
                  <a:ext cx="173160" cy="1279800"/>
                  <a:chOff x="3495600" y="3397680"/>
                  <a:chExt cx="173160" cy="127980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3668400" y="3601440"/>
                    <a:ext cx="0" cy="107604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495600" y="34434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495600" y="34891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495600" y="35344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495600" y="35805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495600" y="36262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495600" y="36716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495600" y="37177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495600" y="37634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495600" y="38088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495600" y="38545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3495600" y="39006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495600" y="390060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495600" y="3945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495600" y="39459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495600" y="3991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495600" y="3991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495600" y="403776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495600" y="408312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495600" y="412884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3495600" y="3397680"/>
                    <a:ext cx="173160" cy="27396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3516120" y="3306600"/>
                <a:ext cx="325800" cy="325440"/>
                <a:chOff x="3516120" y="3306600"/>
                <a:chExt cx="325800" cy="325440"/>
              </a:xfrm>
            </p:grpSpPr>
            <p:sp>
              <p:nvSpPr>
                <p:cNvPr id="313" name=""/>
                <p:cNvSpPr/>
                <p:nvPr/>
              </p:nvSpPr>
              <p:spPr>
                <a:xfrm flipV="1">
                  <a:off x="3685320" y="3306600"/>
                  <a:ext cx="0" cy="325440"/>
                </a:xfrm>
                <a:prstGeom prst="line">
                  <a:avLst/>
                </a:prstGeom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3516120" y="3377880"/>
                  <a:ext cx="325800" cy="249120"/>
                  <a:chOff x="3516120" y="3377880"/>
                  <a:chExt cx="325800" cy="249120"/>
                </a:xfrm>
              </p:grpSpPr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3679560" y="3377880"/>
                    <a:ext cx="162360" cy="249120"/>
                    <a:chOff x="3679560" y="3377880"/>
                    <a:chExt cx="162360" cy="2491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V="1">
                      <a:off x="3679560" y="3377880"/>
                      <a:ext cx="162360" cy="24912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V="1">
                      <a:off x="3679560" y="3416400"/>
                      <a:ext cx="54000" cy="21024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516120" y="3377880"/>
                    <a:ext cx="162360" cy="249120"/>
                    <a:chOff x="3516120" y="3377880"/>
                    <a:chExt cx="162360" cy="24912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flipV="1">
                      <a:off x="3516120" y="3377880"/>
                      <a:ext cx="162360" cy="24912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flipV="1">
                      <a:off x="3624480" y="3416400"/>
                      <a:ext cx="54000" cy="21024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7772400" y="6094440"/>
            <a:ext cx="1371600" cy="7635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38792" h="21600">
                <a:moveTo>
                  <a:pt x="0" y="0"/>
                </a:moveTo>
                <a:lnTo>
                  <a:pt x="38792" y="0"/>
                </a:lnTo>
                <a:lnTo>
                  <a:pt x="38792" y="21600"/>
                </a:lnTo>
                <a:lnTo>
                  <a:pt x="0" y="21600"/>
                </a:lnTo>
                <a:close/>
              </a:path>
              <a:path fill="lightenLess" w="38792" h="21600">
                <a:moveTo>
                  <a:pt x="0" y="0"/>
                </a:moveTo>
                <a:lnTo>
                  <a:pt x="38792" y="0"/>
                </a:lnTo>
                <a:lnTo>
                  <a:pt x="37392" y="1400"/>
                </a:lnTo>
                <a:lnTo>
                  <a:pt x="1400" y="1400"/>
                </a:lnTo>
                <a:close/>
              </a:path>
              <a:path fill="darken" w="38792" h="21600">
                <a:moveTo>
                  <a:pt x="38792" y="0"/>
                </a:moveTo>
                <a:lnTo>
                  <a:pt x="38792" y="21600"/>
                </a:lnTo>
                <a:lnTo>
                  <a:pt x="37392" y="20200"/>
                </a:lnTo>
                <a:lnTo>
                  <a:pt x="37392" y="1400"/>
                </a:lnTo>
                <a:close/>
              </a:path>
              <a:path fill="darkenLess" w="38792" h="21600">
                <a:moveTo>
                  <a:pt x="3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92" y="20200"/>
                </a:lnTo>
                <a:close/>
              </a:path>
              <a:path fill="lighten" w="3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92" h="21600">
                <a:moveTo>
                  <a:pt x="12390" y="3794"/>
                </a:moveTo>
                <a:lnTo>
                  <a:pt x="26403" y="10800"/>
                </a:lnTo>
                <a:lnTo>
                  <a:pt x="12390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7200" y="228600"/>
            <a:ext cx="8153280" cy="25628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Comic Sans MS"/>
              </a:rPr>
              <a:t>What do you </a:t>
            </a:r>
            <a:r>
              <a:rPr b="0" lang="en-US" sz="5400" spc="-1" strike="noStrike" u="sng">
                <a:solidFill>
                  <a:srgbClr val="ffff66"/>
                </a:solidFill>
                <a:uFillTx/>
                <a:latin typeface="Comic Sans MS"/>
              </a:rPr>
              <a:t>KNOW</a:t>
            </a:r>
            <a:r>
              <a:rPr b="0" lang="en-US" sz="5400" spc="-1" strike="noStrike">
                <a:solidFill>
                  <a:srgbClr val="ffff66"/>
                </a:solidFill>
                <a:latin typeface="Comic Sans MS"/>
              </a:rPr>
              <a:t> about Native American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657600" y="3746520"/>
            <a:ext cx="1981080" cy="3722760"/>
            <a:chOff x="3657600" y="3746520"/>
            <a:chExt cx="1981080" cy="3722760"/>
          </a:xfrm>
        </p:grpSpPr>
        <p:grpSp>
          <p:nvGrpSpPr>
            <p:cNvPr id="324" name=""/>
            <p:cNvGrpSpPr/>
            <p:nvPr/>
          </p:nvGrpSpPr>
          <p:grpSpPr>
            <a:xfrm>
              <a:off x="4114800" y="3746520"/>
              <a:ext cx="380520" cy="1273680"/>
              <a:chOff x="4114800" y="3746520"/>
              <a:chExt cx="380520" cy="127368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4114800" y="3831120"/>
                <a:ext cx="380520" cy="1189080"/>
                <a:chOff x="4114800" y="3831120"/>
                <a:chExt cx="380520" cy="11890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4322160" y="3831120"/>
                  <a:ext cx="173160" cy="1189080"/>
                  <a:chOff x="4322160" y="3831120"/>
                  <a:chExt cx="173160" cy="11890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4322520" y="4020480"/>
                    <a:ext cx="0" cy="9997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4322160" y="38736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>
                    <a:off x="4322160" y="39160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4322160" y="39582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4322160" y="40010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>
                    <a:off x="4322160" y="4043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22160" y="40856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>
                    <a:off x="4322160" y="41284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>
                    <a:off x="4322160" y="41709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>
                    <a:off x="4322160" y="42130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>
                    <a:off x="4322160" y="42555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>
                    <a:off x="4322160" y="4298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>
                    <a:off x="4322160" y="4298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>
                    <a:off x="4322160" y="4340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>
                    <a:off x="4322160" y="4340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H="1">
                    <a:off x="4322160" y="43830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>
                    <a:off x="4322160" y="43830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>
                    <a:off x="4322160" y="44258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>
                    <a:off x="4322160" y="44679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>
                    <a:off x="4322160" y="45104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>
                    <a:off x="4322160" y="38311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4114800" y="3831120"/>
                  <a:ext cx="173160" cy="1189080"/>
                  <a:chOff x="4114800" y="3831120"/>
                  <a:chExt cx="173160" cy="118908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4287600" y="4020480"/>
                    <a:ext cx="0" cy="9997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114800" y="38736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114800" y="39160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114800" y="39582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114800" y="40010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114800" y="4043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4114800" y="40856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114800" y="41284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4114800" y="41709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114800" y="42130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4114800" y="42555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4114800" y="4298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114800" y="4298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114800" y="4340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114800" y="4340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114800" y="43830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114800" y="43830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4114800" y="44258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114800" y="44679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114800" y="45104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4114800" y="38311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0" name=""/>
              <p:cNvGrpSpPr/>
              <p:nvPr/>
            </p:nvGrpSpPr>
            <p:grpSpPr>
              <a:xfrm>
                <a:off x="4135320" y="3746520"/>
                <a:ext cx="325800" cy="302400"/>
                <a:chOff x="4135320" y="3746520"/>
                <a:chExt cx="325800" cy="302400"/>
              </a:xfrm>
            </p:grpSpPr>
            <p:sp>
              <p:nvSpPr>
                <p:cNvPr id="371" name=""/>
                <p:cNvSpPr/>
                <p:nvPr/>
              </p:nvSpPr>
              <p:spPr>
                <a:xfrm flipV="1">
                  <a:off x="4304520" y="3746520"/>
                  <a:ext cx="0" cy="302400"/>
                </a:xfrm>
                <a:prstGeom prst="line">
                  <a:avLst/>
                </a:prstGeom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4135320" y="3812400"/>
                  <a:ext cx="325800" cy="231480"/>
                  <a:chOff x="4135320" y="3812400"/>
                  <a:chExt cx="325800" cy="231480"/>
                </a:xfrm>
              </p:grpSpPr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4298760" y="3812400"/>
                    <a:ext cx="162360" cy="231480"/>
                    <a:chOff x="4298760" y="3812400"/>
                    <a:chExt cx="162360" cy="23148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flipV="1">
                      <a:off x="4298760" y="381240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flipV="1">
                      <a:off x="4298760" y="384840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4135320" y="3812400"/>
                    <a:ext cx="162360" cy="231480"/>
                    <a:chOff x="4135320" y="3812400"/>
                    <a:chExt cx="162360" cy="23148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flipH="1" flipV="1">
                      <a:off x="4135320" y="381240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 flipV="1">
                      <a:off x="4243680" y="384840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379" name=""/>
            <p:cNvSpPr/>
            <p:nvPr/>
          </p:nvSpPr>
          <p:spPr>
            <a:xfrm>
              <a:off x="3657600" y="4327200"/>
              <a:ext cx="198108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0080ff"/>
                  </a:solidFill>
                  <a:latin typeface="Times New Roman"/>
                </a:rPr>
                <a:t>?</a:t>
              </a:r>
              <a:endParaRPr b="0" lang="en-US" sz="2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4495680" y="3760920"/>
              <a:ext cx="380520" cy="1273680"/>
              <a:chOff x="4495680" y="3760920"/>
              <a:chExt cx="380520" cy="127368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4495680" y="3845520"/>
                <a:ext cx="380520" cy="1189080"/>
                <a:chOff x="4495680" y="3845520"/>
                <a:chExt cx="380520" cy="118908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4703040" y="3845520"/>
                  <a:ext cx="173160" cy="1189080"/>
                  <a:chOff x="4703040" y="3845520"/>
                  <a:chExt cx="173160" cy="11890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4703400" y="4034880"/>
                    <a:ext cx="0" cy="9997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4703040" y="38880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>
                    <a:off x="4703040" y="39304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>
                    <a:off x="4703040" y="39726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4703040" y="40154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>
                    <a:off x="4703040" y="40579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>
                    <a:off x="4703040" y="41000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>
                    <a:off x="4703040" y="41428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>
                    <a:off x="4703040" y="41853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4703040" y="42274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>
                    <a:off x="4703040" y="42699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4703040" y="43128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4703040" y="43128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>
                    <a:off x="4703040" y="43549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4703040" y="43549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4703040" y="4397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>
                    <a:off x="4703040" y="4397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4703040" y="44402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>
                    <a:off x="4703040" y="44823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>
                    <a:off x="4703040" y="45248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>
                    <a:off x="4703040" y="3845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4495680" y="3845520"/>
                  <a:ext cx="173160" cy="1189080"/>
                  <a:chOff x="4495680" y="3845520"/>
                  <a:chExt cx="173160" cy="11890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4668480" y="4034880"/>
                    <a:ext cx="0" cy="9997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495680" y="38880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495680" y="39304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495680" y="39726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495680" y="40154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495680" y="40579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495680" y="41000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495680" y="41428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495680" y="41853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495680" y="42274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495680" y="42699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495680" y="43128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495680" y="43128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495680" y="43549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495680" y="43549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495680" y="4397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495680" y="4397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495680" y="44402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495680" y="44823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495680" y="45248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495680" y="3845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4516200" y="3760920"/>
                <a:ext cx="325800" cy="302400"/>
                <a:chOff x="4516200" y="3760920"/>
                <a:chExt cx="325800" cy="302400"/>
              </a:xfrm>
            </p:grpSpPr>
            <p:sp>
              <p:nvSpPr>
                <p:cNvPr id="427" name=""/>
                <p:cNvSpPr/>
                <p:nvPr/>
              </p:nvSpPr>
              <p:spPr>
                <a:xfrm flipV="1">
                  <a:off x="4685400" y="3760920"/>
                  <a:ext cx="0" cy="3024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4516200" y="3826800"/>
                  <a:ext cx="325800" cy="231480"/>
                  <a:chOff x="4516200" y="3826800"/>
                  <a:chExt cx="325800" cy="231480"/>
                </a:xfrm>
              </p:grpSpPr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4679640" y="3826800"/>
                    <a:ext cx="162360" cy="231480"/>
                    <a:chOff x="4679640" y="3826800"/>
                    <a:chExt cx="162360" cy="23148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flipV="1">
                      <a:off x="4679640" y="382680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V="1">
                      <a:off x="4679640" y="386280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16200" y="3826800"/>
                    <a:ext cx="162360" cy="231480"/>
                    <a:chOff x="4516200" y="3826800"/>
                    <a:chExt cx="162360" cy="23148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 flipV="1">
                      <a:off x="4516200" y="382680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flipV="1">
                      <a:off x="4624560" y="386280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35" name=""/>
            <p:cNvGrpSpPr/>
            <p:nvPr/>
          </p:nvGrpSpPr>
          <p:grpSpPr>
            <a:xfrm>
              <a:off x="4876920" y="3746520"/>
              <a:ext cx="380520" cy="1273680"/>
              <a:chOff x="4876920" y="3746520"/>
              <a:chExt cx="380520" cy="127368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4876920" y="3831120"/>
                <a:ext cx="380520" cy="1189080"/>
                <a:chOff x="4876920" y="3831120"/>
                <a:chExt cx="380520" cy="118908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5084280" y="3831120"/>
                  <a:ext cx="173160" cy="1189080"/>
                  <a:chOff x="5084280" y="3831120"/>
                  <a:chExt cx="173160" cy="11890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5084640" y="4020480"/>
                    <a:ext cx="0" cy="9997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>
                    <a:off x="5084280" y="38736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>
                    <a:off x="5084280" y="39160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5084280" y="39582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5084280" y="40010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5084280" y="4043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>
                    <a:off x="5084280" y="40856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>
                    <a:off x="5084280" y="41284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>
                    <a:off x="5084280" y="41709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>
                    <a:off x="5084280" y="42130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5084280" y="42555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>
                    <a:off x="5084280" y="4298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>
                    <a:off x="5084280" y="4298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>
                    <a:off x="5084280" y="4340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>
                    <a:off x="5084280" y="4340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5084280" y="43830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5084280" y="43830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>
                    <a:off x="5084280" y="44258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5084280" y="44679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5084280" y="45104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>
                    <a:off x="5084280" y="38311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4876920" y="3831120"/>
                  <a:ext cx="173160" cy="1189080"/>
                  <a:chOff x="4876920" y="3831120"/>
                  <a:chExt cx="173160" cy="11890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5049720" y="4020480"/>
                    <a:ext cx="0" cy="9997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876920" y="38736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876920" y="39160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876920" y="39582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876920" y="40010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876920" y="4043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876920" y="40856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876920" y="41284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876920" y="41709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876920" y="421308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876920" y="42555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876920" y="4298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876920" y="42984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876920" y="4340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876920" y="43405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876920" y="43830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876920" y="438300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876920" y="44258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876920" y="446796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876920" y="451044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876920" y="3831120"/>
                    <a:ext cx="173160" cy="25452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4897440" y="3746520"/>
                <a:ext cx="325800" cy="302400"/>
                <a:chOff x="4897440" y="3746520"/>
                <a:chExt cx="325800" cy="302400"/>
              </a:xfrm>
            </p:grpSpPr>
            <p:sp>
              <p:nvSpPr>
                <p:cNvPr id="482" name=""/>
                <p:cNvSpPr/>
                <p:nvPr/>
              </p:nvSpPr>
              <p:spPr>
                <a:xfrm flipV="1">
                  <a:off x="5066640" y="3746520"/>
                  <a:ext cx="0" cy="302400"/>
                </a:xfrm>
                <a:prstGeom prst="line">
                  <a:avLst/>
                </a:prstGeom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4897440" y="3812400"/>
                  <a:ext cx="325800" cy="231480"/>
                  <a:chOff x="4897440" y="3812400"/>
                  <a:chExt cx="325800" cy="231480"/>
                </a:xfrm>
              </p:grpSpPr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060880" y="3812400"/>
                    <a:ext cx="162360" cy="231480"/>
                    <a:chOff x="5060880" y="3812400"/>
                    <a:chExt cx="162360" cy="2314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flipV="1">
                      <a:off x="5060880" y="381240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V="1">
                      <a:off x="5060880" y="384840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4897440" y="3812400"/>
                    <a:ext cx="162360" cy="231480"/>
                    <a:chOff x="4897440" y="3812400"/>
                    <a:chExt cx="162360" cy="23148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flipH="1" flipV="1">
                      <a:off x="4897440" y="381240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H="1" flipV="1">
                      <a:off x="5005800" y="384840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7772400" y="6094440"/>
            <a:ext cx="1371600" cy="7635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38792" h="21600">
                <a:moveTo>
                  <a:pt x="0" y="0"/>
                </a:moveTo>
                <a:lnTo>
                  <a:pt x="38792" y="0"/>
                </a:lnTo>
                <a:lnTo>
                  <a:pt x="38792" y="21600"/>
                </a:lnTo>
                <a:lnTo>
                  <a:pt x="0" y="21600"/>
                </a:lnTo>
                <a:close/>
              </a:path>
              <a:path fill="lightenLess" w="38792" h="21600">
                <a:moveTo>
                  <a:pt x="0" y="0"/>
                </a:moveTo>
                <a:lnTo>
                  <a:pt x="38792" y="0"/>
                </a:lnTo>
                <a:lnTo>
                  <a:pt x="37392" y="1400"/>
                </a:lnTo>
                <a:lnTo>
                  <a:pt x="1400" y="1400"/>
                </a:lnTo>
                <a:close/>
              </a:path>
              <a:path fill="darken" w="38792" h="21600">
                <a:moveTo>
                  <a:pt x="38792" y="0"/>
                </a:moveTo>
                <a:lnTo>
                  <a:pt x="38792" y="21600"/>
                </a:lnTo>
                <a:lnTo>
                  <a:pt x="37392" y="20200"/>
                </a:lnTo>
                <a:lnTo>
                  <a:pt x="37392" y="1400"/>
                </a:lnTo>
                <a:close/>
              </a:path>
              <a:path fill="darkenLess" w="38792" h="21600">
                <a:moveTo>
                  <a:pt x="3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92" y="20200"/>
                </a:lnTo>
                <a:close/>
              </a:path>
              <a:path fill="lighten" w="3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92" h="21600">
                <a:moveTo>
                  <a:pt x="12390" y="3794"/>
                </a:moveTo>
                <a:lnTo>
                  <a:pt x="26403" y="10800"/>
                </a:lnTo>
                <a:lnTo>
                  <a:pt x="12390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914400" y="380880"/>
            <a:ext cx="7467480" cy="25628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Comic Sans MS"/>
              </a:rPr>
              <a:t>Let’s look at a short video about Native American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"/>
          </p:cNvPr>
          <p:cNvSpPr/>
          <p:nvPr/>
        </p:nvSpPr>
        <p:spPr>
          <a:xfrm>
            <a:off x="3200400" y="4343400"/>
            <a:ext cx="2743200" cy="1676520"/>
          </a:xfrm>
          <a:custGeom>
            <a:avLst/>
            <a:gdLst>
              <a:gd name="textAreaLeft" fmla="*/ 108360 w 2743200"/>
              <a:gd name="textAreaRight" fmla="*/ 2634840 w 274320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5340" h="21600">
                <a:moveTo>
                  <a:pt x="0" y="0"/>
                </a:moveTo>
                <a:lnTo>
                  <a:pt x="35340" y="0"/>
                </a:lnTo>
                <a:lnTo>
                  <a:pt x="35340" y="21600"/>
                </a:lnTo>
                <a:lnTo>
                  <a:pt x="0" y="21600"/>
                </a:lnTo>
                <a:close/>
              </a:path>
              <a:path fill="lightenLess" w="35340" h="21600">
                <a:moveTo>
                  <a:pt x="0" y="0"/>
                </a:moveTo>
                <a:lnTo>
                  <a:pt x="35340" y="0"/>
                </a:lnTo>
                <a:lnTo>
                  <a:pt x="33940" y="1400"/>
                </a:lnTo>
                <a:lnTo>
                  <a:pt x="1400" y="1400"/>
                </a:lnTo>
                <a:close/>
              </a:path>
              <a:path fill="darken" w="35340" h="21600">
                <a:moveTo>
                  <a:pt x="35340" y="0"/>
                </a:moveTo>
                <a:lnTo>
                  <a:pt x="35340" y="21600"/>
                </a:lnTo>
                <a:lnTo>
                  <a:pt x="33940" y="20200"/>
                </a:lnTo>
                <a:lnTo>
                  <a:pt x="33940" y="1400"/>
                </a:lnTo>
                <a:close/>
              </a:path>
              <a:path fill="darkenLess" w="35340" h="21600">
                <a:moveTo>
                  <a:pt x="35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0" y="20200"/>
                </a:lnTo>
                <a:close/>
              </a:path>
              <a:path fill="lighten" w="35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0" h="21600">
                <a:moveTo>
                  <a:pt x="10664" y="7301"/>
                </a:moveTo>
                <a:lnTo>
                  <a:pt x="11577" y="7301"/>
                </a:lnTo>
                <a:lnTo>
                  <a:pt x="11960" y="7667"/>
                </a:lnTo>
                <a:lnTo>
                  <a:pt x="21169" y="7667"/>
                </a:lnTo>
                <a:lnTo>
                  <a:pt x="21726" y="8224"/>
                </a:lnTo>
                <a:lnTo>
                  <a:pt x="21726" y="8772"/>
                </a:lnTo>
                <a:lnTo>
                  <a:pt x="23571" y="8772"/>
                </a:lnTo>
                <a:lnTo>
                  <a:pt x="23937" y="8224"/>
                </a:lnTo>
                <a:lnTo>
                  <a:pt x="24676" y="8224"/>
                </a:lnTo>
                <a:lnTo>
                  <a:pt x="24676" y="13376"/>
                </a:lnTo>
                <a:lnTo>
                  <a:pt x="23937" y="13376"/>
                </a:lnTo>
                <a:lnTo>
                  <a:pt x="23571" y="12828"/>
                </a:lnTo>
                <a:lnTo>
                  <a:pt x="21726" y="12828"/>
                </a:lnTo>
                <a:lnTo>
                  <a:pt x="21726" y="14107"/>
                </a:lnTo>
                <a:lnTo>
                  <a:pt x="12143" y="14107"/>
                </a:lnTo>
                <a:lnTo>
                  <a:pt x="12143" y="9877"/>
                </a:lnTo>
                <a:lnTo>
                  <a:pt x="11960" y="9877"/>
                </a:lnTo>
                <a:lnTo>
                  <a:pt x="11577" y="10243"/>
                </a:lnTo>
                <a:lnTo>
                  <a:pt x="10664" y="10243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nextslide"/>
          </p:cNvPr>
          <p:cNvSpPr/>
          <p:nvPr/>
        </p:nvSpPr>
        <p:spPr>
          <a:xfrm>
            <a:off x="7772400" y="6094440"/>
            <a:ext cx="1371600" cy="7635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38792" h="21600">
                <a:moveTo>
                  <a:pt x="0" y="0"/>
                </a:moveTo>
                <a:lnTo>
                  <a:pt x="38792" y="0"/>
                </a:lnTo>
                <a:lnTo>
                  <a:pt x="38792" y="21600"/>
                </a:lnTo>
                <a:lnTo>
                  <a:pt x="0" y="21600"/>
                </a:lnTo>
                <a:close/>
              </a:path>
              <a:path fill="lightenLess" w="38792" h="21600">
                <a:moveTo>
                  <a:pt x="0" y="0"/>
                </a:moveTo>
                <a:lnTo>
                  <a:pt x="38792" y="0"/>
                </a:lnTo>
                <a:lnTo>
                  <a:pt x="37392" y="1400"/>
                </a:lnTo>
                <a:lnTo>
                  <a:pt x="1400" y="1400"/>
                </a:lnTo>
                <a:close/>
              </a:path>
              <a:path fill="darken" w="38792" h="21600">
                <a:moveTo>
                  <a:pt x="38792" y="0"/>
                </a:moveTo>
                <a:lnTo>
                  <a:pt x="38792" y="21600"/>
                </a:lnTo>
                <a:lnTo>
                  <a:pt x="37392" y="20200"/>
                </a:lnTo>
                <a:lnTo>
                  <a:pt x="37392" y="1400"/>
                </a:lnTo>
                <a:close/>
              </a:path>
              <a:path fill="darkenLess" w="38792" h="21600">
                <a:moveTo>
                  <a:pt x="3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92" y="20200"/>
                </a:lnTo>
                <a:close/>
              </a:path>
              <a:path fill="lighten" w="3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92" h="21600">
                <a:moveTo>
                  <a:pt x="12390" y="3794"/>
                </a:moveTo>
                <a:lnTo>
                  <a:pt x="26403" y="10800"/>
                </a:lnTo>
                <a:lnTo>
                  <a:pt x="12390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Lets look at our nation real qui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5454720"/>
          </a:xfrm>
          <a:prstGeom prst="rect">
            <a:avLst/>
          </a:prstGeom>
          <a:ln w="0">
            <a:noFill/>
          </a:ln>
        </p:spPr>
      </p:pic>
      <p:grpSp>
        <p:nvGrpSpPr>
          <p:cNvPr id="496" name=""/>
          <p:cNvGrpSpPr/>
          <p:nvPr/>
        </p:nvGrpSpPr>
        <p:grpSpPr>
          <a:xfrm>
            <a:off x="6019920" y="1905120"/>
            <a:ext cx="1255680" cy="1463400"/>
            <a:chOff x="6019920" y="1905120"/>
            <a:chExt cx="1255680" cy="1463400"/>
          </a:xfrm>
        </p:grpSpPr>
        <p:sp>
          <p:nvSpPr>
            <p:cNvPr id="497" name=""/>
            <p:cNvSpPr/>
            <p:nvPr/>
          </p:nvSpPr>
          <p:spPr>
            <a:xfrm>
              <a:off x="6730920" y="2884320"/>
              <a:ext cx="544680" cy="484200"/>
            </a:xfrm>
            <a:custGeom>
              <a:avLst/>
              <a:gdLst/>
              <a:ahLst/>
              <a:rect l="l" t="t" r="r" b="b"/>
              <a:pathLst>
                <a:path w="343" h="305">
                  <a:moveTo>
                    <a:pt x="23" y="183"/>
                  </a:moveTo>
                  <a:cubicBezTo>
                    <a:pt x="113" y="153"/>
                    <a:pt x="0" y="183"/>
                    <a:pt x="91" y="183"/>
                  </a:cubicBezTo>
                  <a:cubicBezTo>
                    <a:pt x="125" y="183"/>
                    <a:pt x="159" y="175"/>
                    <a:pt x="194" y="172"/>
                  </a:cubicBezTo>
                  <a:cubicBezTo>
                    <a:pt x="196" y="157"/>
                    <a:pt x="219" y="25"/>
                    <a:pt x="229" y="12"/>
                  </a:cubicBezTo>
                  <a:cubicBezTo>
                    <a:pt x="235" y="2"/>
                    <a:pt x="251" y="4"/>
                    <a:pt x="263" y="0"/>
                  </a:cubicBezTo>
                  <a:cubicBezTo>
                    <a:pt x="274" y="4"/>
                    <a:pt x="289" y="2"/>
                    <a:pt x="297" y="12"/>
                  </a:cubicBezTo>
                  <a:cubicBezTo>
                    <a:pt x="306" y="24"/>
                    <a:pt x="304" y="42"/>
                    <a:pt x="309" y="57"/>
                  </a:cubicBezTo>
                  <a:cubicBezTo>
                    <a:pt x="315" y="80"/>
                    <a:pt x="323" y="103"/>
                    <a:pt x="331" y="126"/>
                  </a:cubicBezTo>
                  <a:cubicBezTo>
                    <a:pt x="334" y="137"/>
                    <a:pt x="343" y="160"/>
                    <a:pt x="343" y="160"/>
                  </a:cubicBezTo>
                  <a:cubicBezTo>
                    <a:pt x="324" y="231"/>
                    <a:pt x="343" y="198"/>
                    <a:pt x="263" y="252"/>
                  </a:cubicBezTo>
                  <a:cubicBezTo>
                    <a:pt x="251" y="259"/>
                    <a:pt x="241" y="269"/>
                    <a:pt x="229" y="274"/>
                  </a:cubicBezTo>
                  <a:cubicBezTo>
                    <a:pt x="206" y="281"/>
                    <a:pt x="160" y="297"/>
                    <a:pt x="160" y="297"/>
                  </a:cubicBezTo>
                  <a:cubicBezTo>
                    <a:pt x="118" y="293"/>
                    <a:pt x="71" y="305"/>
                    <a:pt x="34" y="286"/>
                  </a:cubicBezTo>
                  <a:cubicBezTo>
                    <a:pt x="12" y="274"/>
                    <a:pt x="11" y="217"/>
                    <a:pt x="11" y="217"/>
                  </a:cubicBezTo>
                  <a:cubicBezTo>
                    <a:pt x="15" y="205"/>
                    <a:pt x="23" y="183"/>
                    <a:pt x="23" y="183"/>
                  </a:cubicBezTo>
                  <a:close/>
                </a:path>
              </a:pathLst>
            </a:custGeom>
            <a:solidFill>
              <a:srgbClr val="ff8000">
                <a:alpha val="36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19920" y="1905120"/>
              <a:ext cx="1218960" cy="82548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8000"/>
                  </a:solidFill>
                  <a:latin typeface="Times New Roman"/>
                </a:rPr>
                <a:t>Iroquois N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81680" y="2736720"/>
              <a:ext cx="304920" cy="38736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130720" y="4038480"/>
            <a:ext cx="1650960" cy="2730600"/>
            <a:chOff x="5130720" y="4038480"/>
            <a:chExt cx="1650960" cy="2730600"/>
          </a:xfrm>
        </p:grpSpPr>
        <p:grpSp>
          <p:nvGrpSpPr>
            <p:cNvPr id="501" name=""/>
            <p:cNvGrpSpPr/>
            <p:nvPr/>
          </p:nvGrpSpPr>
          <p:grpSpPr>
            <a:xfrm>
              <a:off x="5130720" y="4038480"/>
              <a:ext cx="1650960" cy="2730600"/>
              <a:chOff x="5130720" y="4038480"/>
              <a:chExt cx="1650960" cy="2730600"/>
            </a:xfrm>
          </p:grpSpPr>
          <p:sp>
            <p:nvSpPr>
              <p:cNvPr id="502" name=""/>
              <p:cNvSpPr/>
              <p:nvPr/>
            </p:nvSpPr>
            <p:spPr>
              <a:xfrm>
                <a:off x="5497560" y="4038480"/>
                <a:ext cx="1284120" cy="1143000"/>
              </a:xfrm>
              <a:custGeom>
                <a:avLst/>
                <a:gdLst/>
                <a:ahLst/>
                <a:rect l="l" t="t" r="r" b="b"/>
                <a:pathLst>
                  <a:path w="761" h="563">
                    <a:moveTo>
                      <a:pt x="69" y="231"/>
                    </a:moveTo>
                    <a:cubicBezTo>
                      <a:pt x="72" y="212"/>
                      <a:pt x="70" y="190"/>
                      <a:pt x="80" y="174"/>
                    </a:cubicBezTo>
                    <a:cubicBezTo>
                      <a:pt x="99" y="139"/>
                      <a:pt x="221" y="121"/>
                      <a:pt x="240" y="117"/>
                    </a:cubicBezTo>
                    <a:cubicBezTo>
                      <a:pt x="251" y="109"/>
                      <a:pt x="262" y="100"/>
                      <a:pt x="275" y="94"/>
                    </a:cubicBezTo>
                    <a:cubicBezTo>
                      <a:pt x="285" y="88"/>
                      <a:pt x="300" y="91"/>
                      <a:pt x="309" y="83"/>
                    </a:cubicBezTo>
                    <a:cubicBezTo>
                      <a:pt x="317" y="74"/>
                      <a:pt x="311" y="56"/>
                      <a:pt x="320" y="48"/>
                    </a:cubicBezTo>
                    <a:cubicBezTo>
                      <a:pt x="328" y="39"/>
                      <a:pt x="343" y="40"/>
                      <a:pt x="355" y="37"/>
                    </a:cubicBezTo>
                    <a:cubicBezTo>
                      <a:pt x="445" y="7"/>
                      <a:pt x="394" y="20"/>
                      <a:pt x="469" y="3"/>
                    </a:cubicBezTo>
                    <a:cubicBezTo>
                      <a:pt x="522" y="6"/>
                      <a:pt x="577" y="0"/>
                      <a:pt x="629" y="14"/>
                    </a:cubicBezTo>
                    <a:cubicBezTo>
                      <a:pt x="640" y="17"/>
                      <a:pt x="631" y="39"/>
                      <a:pt x="640" y="48"/>
                    </a:cubicBezTo>
                    <a:cubicBezTo>
                      <a:pt x="648" y="56"/>
                      <a:pt x="663" y="56"/>
                      <a:pt x="675" y="60"/>
                    </a:cubicBezTo>
                    <a:cubicBezTo>
                      <a:pt x="682" y="71"/>
                      <a:pt x="691" y="81"/>
                      <a:pt x="697" y="94"/>
                    </a:cubicBezTo>
                    <a:cubicBezTo>
                      <a:pt x="710" y="127"/>
                      <a:pt x="732" y="197"/>
                      <a:pt x="732" y="197"/>
                    </a:cubicBezTo>
                    <a:cubicBezTo>
                      <a:pt x="728" y="231"/>
                      <a:pt x="720" y="265"/>
                      <a:pt x="720" y="300"/>
                    </a:cubicBezTo>
                    <a:cubicBezTo>
                      <a:pt x="720" y="397"/>
                      <a:pt x="761" y="485"/>
                      <a:pt x="686" y="563"/>
                    </a:cubicBezTo>
                    <a:cubicBezTo>
                      <a:pt x="625" y="559"/>
                      <a:pt x="563" y="560"/>
                      <a:pt x="503" y="551"/>
                    </a:cubicBezTo>
                    <a:cubicBezTo>
                      <a:pt x="489" y="548"/>
                      <a:pt x="481" y="532"/>
                      <a:pt x="469" y="528"/>
                    </a:cubicBezTo>
                    <a:cubicBezTo>
                      <a:pt x="446" y="520"/>
                      <a:pt x="423" y="520"/>
                      <a:pt x="400" y="517"/>
                    </a:cubicBezTo>
                    <a:cubicBezTo>
                      <a:pt x="304" y="483"/>
                      <a:pt x="419" y="533"/>
                      <a:pt x="355" y="471"/>
                    </a:cubicBezTo>
                    <a:cubicBezTo>
                      <a:pt x="346" y="462"/>
                      <a:pt x="331" y="463"/>
                      <a:pt x="320" y="460"/>
                    </a:cubicBezTo>
                    <a:cubicBezTo>
                      <a:pt x="217" y="390"/>
                      <a:pt x="44" y="517"/>
                      <a:pt x="0" y="391"/>
                    </a:cubicBezTo>
                    <a:cubicBezTo>
                      <a:pt x="19" y="334"/>
                      <a:pt x="37" y="277"/>
                      <a:pt x="57" y="220"/>
                    </a:cubicBezTo>
                    <a:cubicBezTo>
                      <a:pt x="60" y="208"/>
                      <a:pt x="58" y="191"/>
                      <a:pt x="69" y="185"/>
                    </a:cubicBezTo>
                    <a:cubicBezTo>
                      <a:pt x="80" y="177"/>
                      <a:pt x="103" y="163"/>
                      <a:pt x="103" y="163"/>
                    </a:cubicBezTo>
                    <a:lnTo>
                      <a:pt x="126" y="94"/>
                    </a:lnTo>
                  </a:path>
                </a:pathLst>
              </a:custGeom>
              <a:solidFill>
                <a:srgbClr val="ff6666">
                  <a:alpha val="3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130720" y="5943600"/>
                <a:ext cx="1600200" cy="8254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herokee N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 flipH="1">
              <a:off x="6019920" y="4800600"/>
              <a:ext cx="30456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523880" y="4132440"/>
            <a:ext cx="1541520" cy="2103120"/>
            <a:chOff x="1523880" y="4132440"/>
            <a:chExt cx="1541520" cy="2103120"/>
          </a:xfrm>
        </p:grpSpPr>
        <p:sp>
          <p:nvSpPr>
            <p:cNvPr id="506" name=""/>
            <p:cNvSpPr/>
            <p:nvPr/>
          </p:nvSpPr>
          <p:spPr>
            <a:xfrm>
              <a:off x="2438280" y="4132440"/>
              <a:ext cx="627120" cy="668160"/>
            </a:xfrm>
            <a:custGeom>
              <a:avLst/>
              <a:gdLst/>
              <a:ahLst/>
              <a:rect l="l" t="t" r="r" b="b"/>
              <a:pathLst>
                <a:path w="320" h="334">
                  <a:moveTo>
                    <a:pt x="298" y="106"/>
                  </a:moveTo>
                  <a:cubicBezTo>
                    <a:pt x="261" y="0"/>
                    <a:pt x="90" y="81"/>
                    <a:pt x="0" y="94"/>
                  </a:cubicBezTo>
                  <a:cubicBezTo>
                    <a:pt x="7" y="143"/>
                    <a:pt x="5" y="195"/>
                    <a:pt x="23" y="243"/>
                  </a:cubicBezTo>
                  <a:cubicBezTo>
                    <a:pt x="27" y="254"/>
                    <a:pt x="48" y="246"/>
                    <a:pt x="58" y="254"/>
                  </a:cubicBezTo>
                  <a:cubicBezTo>
                    <a:pt x="104" y="290"/>
                    <a:pt x="57" y="311"/>
                    <a:pt x="126" y="334"/>
                  </a:cubicBezTo>
                  <a:cubicBezTo>
                    <a:pt x="142" y="287"/>
                    <a:pt x="138" y="276"/>
                    <a:pt x="206" y="254"/>
                  </a:cubicBezTo>
                  <a:cubicBezTo>
                    <a:pt x="229" y="246"/>
                    <a:pt x="251" y="238"/>
                    <a:pt x="275" y="231"/>
                  </a:cubicBezTo>
                  <a:cubicBezTo>
                    <a:pt x="286" y="227"/>
                    <a:pt x="309" y="220"/>
                    <a:pt x="309" y="220"/>
                  </a:cubicBezTo>
                  <a:cubicBezTo>
                    <a:pt x="312" y="208"/>
                    <a:pt x="320" y="197"/>
                    <a:pt x="320" y="186"/>
                  </a:cubicBezTo>
                  <a:cubicBezTo>
                    <a:pt x="320" y="151"/>
                    <a:pt x="271" y="130"/>
                    <a:pt x="298" y="106"/>
                  </a:cubicBezTo>
                  <a:close/>
                </a:path>
              </a:pathLst>
            </a:custGeom>
            <a:solidFill>
              <a:srgbClr val="008040">
                <a:alpha val="36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23880" y="5410080"/>
              <a:ext cx="1541520" cy="825480"/>
            </a:xfrm>
            <a:prstGeom prst="rect">
              <a:avLst/>
            </a:prstGeom>
            <a:noFill/>
            <a:ln w="9360">
              <a:solidFill>
                <a:srgbClr val="008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Times New Roman"/>
                </a:rPr>
                <a:t>Navajo N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437920" y="4572000"/>
              <a:ext cx="304920" cy="838080"/>
            </a:xfrm>
            <a:prstGeom prst="line">
              <a:avLst/>
            </a:prstGeom>
            <a:ln w="9360">
              <a:solidFill>
                <a:srgbClr val="008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781680" y="4943520"/>
            <a:ext cx="1524240" cy="1000080"/>
            <a:chOff x="6781680" y="4943520"/>
            <a:chExt cx="1524240" cy="1000080"/>
          </a:xfrm>
        </p:grpSpPr>
        <p:sp>
          <p:nvSpPr>
            <p:cNvPr id="510" name=""/>
            <p:cNvSpPr/>
            <p:nvPr/>
          </p:nvSpPr>
          <p:spPr>
            <a:xfrm flipV="1">
              <a:off x="7086600" y="5409720"/>
              <a:ext cx="18900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6781680" y="4943520"/>
              <a:ext cx="1524240" cy="1000080"/>
              <a:chOff x="6781680" y="4943520"/>
              <a:chExt cx="1524240" cy="1000080"/>
            </a:xfrm>
          </p:grpSpPr>
          <p:sp>
            <p:nvSpPr>
              <p:cNvPr id="512" name=""/>
              <p:cNvSpPr/>
              <p:nvPr/>
            </p:nvSpPr>
            <p:spPr>
              <a:xfrm>
                <a:off x="6781680" y="5638680"/>
                <a:ext cx="304920" cy="304920"/>
              </a:xfrm>
              <a:prstGeom prst="star5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10280" y="4943520"/>
                <a:ext cx="1295640" cy="459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Orlan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7772400" y="6094440"/>
            <a:ext cx="1371600" cy="7635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38792" h="21600">
                <a:moveTo>
                  <a:pt x="0" y="0"/>
                </a:moveTo>
                <a:lnTo>
                  <a:pt x="38792" y="0"/>
                </a:lnTo>
                <a:lnTo>
                  <a:pt x="38792" y="21600"/>
                </a:lnTo>
                <a:lnTo>
                  <a:pt x="0" y="21600"/>
                </a:lnTo>
                <a:close/>
              </a:path>
              <a:path fill="lightenLess" w="38792" h="21600">
                <a:moveTo>
                  <a:pt x="0" y="0"/>
                </a:moveTo>
                <a:lnTo>
                  <a:pt x="38792" y="0"/>
                </a:lnTo>
                <a:lnTo>
                  <a:pt x="37392" y="1400"/>
                </a:lnTo>
                <a:lnTo>
                  <a:pt x="1400" y="1400"/>
                </a:lnTo>
                <a:close/>
              </a:path>
              <a:path fill="darken" w="38792" h="21600">
                <a:moveTo>
                  <a:pt x="38792" y="0"/>
                </a:moveTo>
                <a:lnTo>
                  <a:pt x="38792" y="21600"/>
                </a:lnTo>
                <a:lnTo>
                  <a:pt x="37392" y="20200"/>
                </a:lnTo>
                <a:lnTo>
                  <a:pt x="37392" y="1400"/>
                </a:lnTo>
                <a:close/>
              </a:path>
              <a:path fill="darkenLess" w="38792" h="21600">
                <a:moveTo>
                  <a:pt x="3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92" y="20200"/>
                </a:lnTo>
                <a:close/>
              </a:path>
              <a:path fill="lighten" w="3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92" h="21600">
                <a:moveTo>
                  <a:pt x="12390" y="3794"/>
                </a:moveTo>
                <a:lnTo>
                  <a:pt x="26403" y="10800"/>
                </a:lnTo>
                <a:lnTo>
                  <a:pt x="12390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048120" y="3359160"/>
            <a:ext cx="609588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nfederation- an alliance or le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1212840"/>
            <a:ext cx="678168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ulture- the characteristic features of everyday life shared by people in a particular place o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320" y="0"/>
            <a:ext cx="8915400" cy="642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A quick look at some vocabulary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7772400" y="6094440"/>
            <a:ext cx="1371600" cy="7635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38792" h="21600">
                <a:moveTo>
                  <a:pt x="0" y="0"/>
                </a:moveTo>
                <a:lnTo>
                  <a:pt x="38792" y="0"/>
                </a:lnTo>
                <a:lnTo>
                  <a:pt x="38792" y="21600"/>
                </a:lnTo>
                <a:lnTo>
                  <a:pt x="0" y="21600"/>
                </a:lnTo>
                <a:close/>
              </a:path>
              <a:path fill="lightenLess" w="38792" h="21600">
                <a:moveTo>
                  <a:pt x="0" y="0"/>
                </a:moveTo>
                <a:lnTo>
                  <a:pt x="38792" y="0"/>
                </a:lnTo>
                <a:lnTo>
                  <a:pt x="37392" y="1400"/>
                </a:lnTo>
                <a:lnTo>
                  <a:pt x="1400" y="1400"/>
                </a:lnTo>
                <a:close/>
              </a:path>
              <a:path fill="darken" w="38792" h="21600">
                <a:moveTo>
                  <a:pt x="38792" y="0"/>
                </a:moveTo>
                <a:lnTo>
                  <a:pt x="38792" y="21600"/>
                </a:lnTo>
                <a:lnTo>
                  <a:pt x="37392" y="20200"/>
                </a:lnTo>
                <a:lnTo>
                  <a:pt x="37392" y="1400"/>
                </a:lnTo>
                <a:close/>
              </a:path>
              <a:path fill="darkenLess" w="38792" h="21600">
                <a:moveTo>
                  <a:pt x="3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92" y="20200"/>
                </a:lnTo>
                <a:close/>
              </a:path>
              <a:path fill="lighten" w="3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92" h="21600">
                <a:moveTo>
                  <a:pt x="12390" y="3794"/>
                </a:moveTo>
                <a:lnTo>
                  <a:pt x="26403" y="10800"/>
                </a:lnTo>
                <a:lnTo>
                  <a:pt x="12390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5181480"/>
            <a:ext cx="716292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Nation-a community of people composed of one or more nationalities usually with its own territory and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62120" y="685800"/>
            <a:ext cx="7772400" cy="2287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What else would you </a:t>
            </a:r>
            <a:r>
              <a:rPr b="0" lang="en-US" sz="4800" spc="-1" strike="noStrike" u="sng">
                <a:solidFill>
                  <a:srgbClr val="ffff66"/>
                </a:solidFill>
                <a:uFillTx/>
                <a:latin typeface="Comic Sans MS"/>
              </a:rPr>
              <a:t>WANT</a:t>
            </a: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 to know about Native America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657600" y="3441600"/>
            <a:ext cx="1981080" cy="3722760"/>
            <a:chOff x="3657600" y="3441600"/>
            <a:chExt cx="1981080" cy="3722760"/>
          </a:xfrm>
        </p:grpSpPr>
        <p:grpSp>
          <p:nvGrpSpPr>
            <p:cNvPr id="522" name=""/>
            <p:cNvGrpSpPr/>
            <p:nvPr/>
          </p:nvGrpSpPr>
          <p:grpSpPr>
            <a:xfrm>
              <a:off x="4114800" y="3441600"/>
              <a:ext cx="380520" cy="1274040"/>
              <a:chOff x="4114800" y="3441600"/>
              <a:chExt cx="380520" cy="127404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4114800" y="3526200"/>
                <a:ext cx="380520" cy="1189440"/>
                <a:chOff x="4114800" y="3526200"/>
                <a:chExt cx="380520" cy="118944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4322160" y="3526200"/>
                  <a:ext cx="173160" cy="1189440"/>
                  <a:chOff x="4322160" y="3526200"/>
                  <a:chExt cx="173160" cy="118944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4322520" y="3715560"/>
                    <a:ext cx="0" cy="10000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>
                    <a:off x="4322160" y="35686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>
                    <a:off x="4322160" y="36111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>
                    <a:off x="4322160" y="36536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>
                    <a:off x="4322160" y="36961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>
                    <a:off x="4322160" y="37386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>
                    <a:off x="4322160" y="37810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>
                    <a:off x="4322160" y="38235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>
                    <a:off x="4322160" y="38660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>
                    <a:off x="4322160" y="39085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4322160" y="39510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>
                    <a:off x="4322160" y="39934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>
                    <a:off x="4322160" y="39934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>
                    <a:off x="4322160" y="40359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>
                    <a:off x="4322160" y="40359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>
                    <a:off x="4322160" y="40784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>
                    <a:off x="4322160" y="40784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>
                    <a:off x="4322160" y="41209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>
                    <a:off x="4322160" y="41634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>
                    <a:off x="4322160" y="42058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>
                    <a:off x="4322160" y="35262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4114800" y="3526200"/>
                  <a:ext cx="173160" cy="1189440"/>
                  <a:chOff x="4114800" y="3526200"/>
                  <a:chExt cx="173160" cy="118944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>
                    <a:off x="4287600" y="3715560"/>
                    <a:ext cx="0" cy="10000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4114800" y="35686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4114800" y="36111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114800" y="36536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114800" y="36961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4114800" y="37386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4114800" y="37810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114800" y="38235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114800" y="38660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114800" y="39085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114800" y="39510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114800" y="39934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4114800" y="39934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114800" y="40359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4114800" y="40359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114800" y="40784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114800" y="40784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4114800" y="41209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4114800" y="41634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4114800" y="42058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4114800" y="35262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8" name=""/>
              <p:cNvGrpSpPr/>
              <p:nvPr/>
            </p:nvGrpSpPr>
            <p:grpSpPr>
              <a:xfrm>
                <a:off x="4135320" y="3441600"/>
                <a:ext cx="325800" cy="302400"/>
                <a:chOff x="4135320" y="3441600"/>
                <a:chExt cx="325800" cy="302400"/>
              </a:xfrm>
            </p:grpSpPr>
            <p:sp>
              <p:nvSpPr>
                <p:cNvPr id="569" name=""/>
                <p:cNvSpPr/>
                <p:nvPr/>
              </p:nvSpPr>
              <p:spPr>
                <a:xfrm flipV="1">
                  <a:off x="4304520" y="3441600"/>
                  <a:ext cx="0" cy="302400"/>
                </a:xfrm>
                <a:prstGeom prst="line">
                  <a:avLst/>
                </a:prstGeom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4135320" y="3507480"/>
                  <a:ext cx="325800" cy="231480"/>
                  <a:chOff x="4135320" y="3507480"/>
                  <a:chExt cx="325800" cy="231480"/>
                </a:xfrm>
              </p:grpSpPr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4298760" y="3507480"/>
                    <a:ext cx="162360" cy="231480"/>
                    <a:chOff x="4298760" y="3507480"/>
                    <a:chExt cx="162360" cy="23148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flipV="1">
                      <a:off x="4298760" y="350748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flipV="1">
                      <a:off x="4298760" y="354348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4135320" y="3507480"/>
                    <a:ext cx="162360" cy="231480"/>
                    <a:chOff x="4135320" y="3507480"/>
                    <a:chExt cx="162360" cy="23148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flipH="1" flipV="1">
                      <a:off x="4135320" y="350748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H="1" flipV="1">
                      <a:off x="4243680" y="354348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77" name=""/>
            <p:cNvSpPr/>
            <p:nvPr/>
          </p:nvSpPr>
          <p:spPr>
            <a:xfrm>
              <a:off x="3657600" y="4022280"/>
              <a:ext cx="198108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0080ff"/>
                  </a:solidFill>
                  <a:latin typeface="Times New Roman"/>
                </a:rPr>
                <a:t>?</a:t>
              </a:r>
              <a:endParaRPr b="0" lang="en-US" sz="2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4495680" y="3456000"/>
              <a:ext cx="380520" cy="1274040"/>
              <a:chOff x="4495680" y="3456000"/>
              <a:chExt cx="380520" cy="127404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4495680" y="3540600"/>
                <a:ext cx="380520" cy="1189440"/>
                <a:chOff x="4495680" y="3540600"/>
                <a:chExt cx="380520" cy="1189440"/>
              </a:xfrm>
            </p:grpSpPr>
            <p:grpSp>
              <p:nvGrpSpPr>
                <p:cNvPr id="580" name=""/>
                <p:cNvGrpSpPr/>
                <p:nvPr/>
              </p:nvGrpSpPr>
              <p:grpSpPr>
                <a:xfrm>
                  <a:off x="4703040" y="3540600"/>
                  <a:ext cx="173160" cy="1189440"/>
                  <a:chOff x="4703040" y="3540600"/>
                  <a:chExt cx="173160" cy="118944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4703400" y="3729960"/>
                    <a:ext cx="0" cy="1000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4703040" y="35830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4703040" y="36255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4703040" y="36680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4703040" y="37105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4703040" y="37530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4703040" y="37954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4703040" y="38379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4703040" y="38804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4703040" y="39229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4703040" y="39654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4703040" y="40078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4703040" y="40078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4703040" y="40503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4703040" y="40503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4703040" y="40928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4703040" y="40928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4703040" y="41353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4703040" y="41778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4703040" y="42202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4703040" y="35406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4495680" y="3540600"/>
                  <a:ext cx="173160" cy="1189440"/>
                  <a:chOff x="4495680" y="3540600"/>
                  <a:chExt cx="173160" cy="11894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4668480" y="3729960"/>
                    <a:ext cx="0" cy="1000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4495680" y="35830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4495680" y="36255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4495680" y="36680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4495680" y="37105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4495680" y="37530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4495680" y="37954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4495680" y="38379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4495680" y="38804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495680" y="39229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495680" y="39654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4495680" y="40078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495680" y="40078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495680" y="40503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4495680" y="40503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4495680" y="40928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495680" y="40928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495680" y="41353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4495680" y="41778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4495680" y="42202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4495680" y="35406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4" name=""/>
              <p:cNvGrpSpPr/>
              <p:nvPr/>
            </p:nvGrpSpPr>
            <p:grpSpPr>
              <a:xfrm>
                <a:off x="4516200" y="3456000"/>
                <a:ext cx="325800" cy="302400"/>
                <a:chOff x="4516200" y="3456000"/>
                <a:chExt cx="325800" cy="302400"/>
              </a:xfrm>
            </p:grpSpPr>
            <p:sp>
              <p:nvSpPr>
                <p:cNvPr id="625" name=""/>
                <p:cNvSpPr/>
                <p:nvPr/>
              </p:nvSpPr>
              <p:spPr>
                <a:xfrm flipV="1">
                  <a:off x="4685400" y="3456000"/>
                  <a:ext cx="0" cy="3024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6" name=""/>
                <p:cNvGrpSpPr/>
                <p:nvPr/>
              </p:nvGrpSpPr>
              <p:grpSpPr>
                <a:xfrm>
                  <a:off x="4516200" y="3521880"/>
                  <a:ext cx="325800" cy="231480"/>
                  <a:chOff x="4516200" y="3521880"/>
                  <a:chExt cx="325800" cy="231480"/>
                </a:xfrm>
              </p:grpSpPr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4679640" y="3521880"/>
                    <a:ext cx="162360" cy="231480"/>
                    <a:chOff x="4679640" y="3521880"/>
                    <a:chExt cx="162360" cy="231480"/>
                  </a:xfrm>
                </p:grpSpPr>
                <p:sp>
                  <p:nvSpPr>
                    <p:cNvPr id="628" name=""/>
                    <p:cNvSpPr/>
                    <p:nvPr/>
                  </p:nvSpPr>
                  <p:spPr>
                    <a:xfrm flipV="1">
                      <a:off x="4679640" y="352188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 flipV="1">
                      <a:off x="4679640" y="355788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0" name=""/>
                  <p:cNvGrpSpPr/>
                  <p:nvPr/>
                </p:nvGrpSpPr>
                <p:grpSpPr>
                  <a:xfrm>
                    <a:off x="4516200" y="3521880"/>
                    <a:ext cx="162360" cy="231480"/>
                    <a:chOff x="4516200" y="3521880"/>
                    <a:chExt cx="162360" cy="231480"/>
                  </a:xfrm>
                </p:grpSpPr>
                <p:sp>
                  <p:nvSpPr>
                    <p:cNvPr id="631" name=""/>
                    <p:cNvSpPr/>
                    <p:nvPr/>
                  </p:nvSpPr>
                  <p:spPr>
                    <a:xfrm flipH="1" flipV="1">
                      <a:off x="4516200" y="352188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 flipH="1" flipV="1">
                      <a:off x="4624560" y="355788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33" name=""/>
            <p:cNvGrpSpPr/>
            <p:nvPr/>
          </p:nvGrpSpPr>
          <p:grpSpPr>
            <a:xfrm>
              <a:off x="4876920" y="3441600"/>
              <a:ext cx="380520" cy="1274040"/>
              <a:chOff x="4876920" y="3441600"/>
              <a:chExt cx="380520" cy="127404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4876920" y="3526200"/>
                <a:ext cx="380520" cy="1189440"/>
                <a:chOff x="4876920" y="3526200"/>
                <a:chExt cx="380520" cy="1189440"/>
              </a:xfrm>
            </p:grpSpPr>
            <p:grpSp>
              <p:nvGrpSpPr>
                <p:cNvPr id="635" name=""/>
                <p:cNvGrpSpPr/>
                <p:nvPr/>
              </p:nvGrpSpPr>
              <p:grpSpPr>
                <a:xfrm>
                  <a:off x="5084280" y="3526200"/>
                  <a:ext cx="173160" cy="1189440"/>
                  <a:chOff x="5084280" y="3526200"/>
                  <a:chExt cx="173160" cy="118944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5084640" y="3715560"/>
                    <a:ext cx="0" cy="10000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>
                    <a:off x="5084280" y="35686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5084280" y="36111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5084280" y="36536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>
                    <a:off x="5084280" y="36961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>
                    <a:off x="5084280" y="37386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5084280" y="37810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>
                    <a:off x="5084280" y="38235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>
                    <a:off x="5084280" y="38660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>
                    <a:off x="5084280" y="39085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5084280" y="39510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5084280" y="39934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5084280" y="39934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>
                    <a:off x="5084280" y="40359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>
                    <a:off x="5084280" y="40359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>
                    <a:off x="5084280" y="40784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>
                    <a:off x="5084280" y="40784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>
                    <a:off x="5084280" y="41209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>
                    <a:off x="5084280" y="41634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>
                    <a:off x="5084280" y="42058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flipH="1">
                    <a:off x="5084280" y="35262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4876920" y="3526200"/>
                  <a:ext cx="173160" cy="1189440"/>
                  <a:chOff x="4876920" y="3526200"/>
                  <a:chExt cx="173160" cy="118944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5049720" y="3715560"/>
                    <a:ext cx="0" cy="10000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876920" y="35686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876920" y="36111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876920" y="36536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876920" y="36961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876920" y="37386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876920" y="37810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876920" y="38235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876920" y="38660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876920" y="39085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876920" y="39510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876920" y="39934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876920" y="39934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876920" y="40359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876920" y="403596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4876920" y="40784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4876920" y="407844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4876920" y="412092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876920" y="41634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4876920" y="420588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876920" y="3526200"/>
                    <a:ext cx="173160" cy="254880"/>
                  </a:xfrm>
                  <a:prstGeom prst="line">
                    <a:avLst/>
                  </a:prstGeom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9" name=""/>
              <p:cNvGrpSpPr/>
              <p:nvPr/>
            </p:nvGrpSpPr>
            <p:grpSpPr>
              <a:xfrm>
                <a:off x="4897440" y="3441600"/>
                <a:ext cx="325800" cy="302400"/>
                <a:chOff x="4897440" y="3441600"/>
                <a:chExt cx="325800" cy="302400"/>
              </a:xfrm>
            </p:grpSpPr>
            <p:sp>
              <p:nvSpPr>
                <p:cNvPr id="680" name=""/>
                <p:cNvSpPr/>
                <p:nvPr/>
              </p:nvSpPr>
              <p:spPr>
                <a:xfrm flipV="1">
                  <a:off x="5066640" y="3441600"/>
                  <a:ext cx="0" cy="302400"/>
                </a:xfrm>
                <a:prstGeom prst="line">
                  <a:avLst/>
                </a:prstGeom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1" name=""/>
                <p:cNvGrpSpPr/>
                <p:nvPr/>
              </p:nvGrpSpPr>
              <p:grpSpPr>
                <a:xfrm>
                  <a:off x="4897440" y="3507480"/>
                  <a:ext cx="325800" cy="231480"/>
                  <a:chOff x="4897440" y="3507480"/>
                  <a:chExt cx="325800" cy="231480"/>
                </a:xfrm>
              </p:grpSpPr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060880" y="3507480"/>
                    <a:ext cx="162360" cy="231480"/>
                    <a:chOff x="5060880" y="3507480"/>
                    <a:chExt cx="162360" cy="2314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V="1">
                      <a:off x="5060880" y="350748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V="1">
                      <a:off x="5060880" y="354348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4897440" y="3507480"/>
                    <a:ext cx="162360" cy="231480"/>
                    <a:chOff x="4897440" y="3507480"/>
                    <a:chExt cx="162360" cy="23148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flipV="1">
                      <a:off x="4897440" y="3507480"/>
                      <a:ext cx="162360" cy="231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flipV="1">
                      <a:off x="5005800" y="3543480"/>
                      <a:ext cx="54000" cy="195480"/>
                    </a:xfrm>
                    <a:prstGeom prst="line">
                      <a:avLst/>
                    </a:prstGeom>
                    <a:ln w="9360">
                      <a:solidFill>
                        <a:srgbClr val="8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688" name="">
            <a:hlinkClick r:id="" action="ppaction://hlinkshowjump?jump=nextslide"/>
          </p:cNvPr>
          <p:cNvSpPr/>
          <p:nvPr/>
        </p:nvSpPr>
        <p:spPr>
          <a:xfrm>
            <a:off x="7772400" y="6094440"/>
            <a:ext cx="1371600" cy="7635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38792" h="21600">
                <a:moveTo>
                  <a:pt x="0" y="0"/>
                </a:moveTo>
                <a:lnTo>
                  <a:pt x="38792" y="0"/>
                </a:lnTo>
                <a:lnTo>
                  <a:pt x="38792" y="21600"/>
                </a:lnTo>
                <a:lnTo>
                  <a:pt x="0" y="21600"/>
                </a:lnTo>
                <a:close/>
              </a:path>
              <a:path fill="lightenLess" w="38792" h="21600">
                <a:moveTo>
                  <a:pt x="0" y="0"/>
                </a:moveTo>
                <a:lnTo>
                  <a:pt x="38792" y="0"/>
                </a:lnTo>
                <a:lnTo>
                  <a:pt x="37392" y="1400"/>
                </a:lnTo>
                <a:lnTo>
                  <a:pt x="1400" y="1400"/>
                </a:lnTo>
                <a:close/>
              </a:path>
              <a:path fill="darken" w="38792" h="21600">
                <a:moveTo>
                  <a:pt x="38792" y="0"/>
                </a:moveTo>
                <a:lnTo>
                  <a:pt x="38792" y="21600"/>
                </a:lnTo>
                <a:lnTo>
                  <a:pt x="37392" y="20200"/>
                </a:lnTo>
                <a:lnTo>
                  <a:pt x="37392" y="1400"/>
                </a:lnTo>
                <a:close/>
              </a:path>
              <a:path fill="darkenLess" w="38792" h="21600">
                <a:moveTo>
                  <a:pt x="3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92" y="20200"/>
                </a:lnTo>
                <a:close/>
              </a:path>
              <a:path fill="lighten" w="3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92" h="21600">
                <a:moveTo>
                  <a:pt x="12390" y="3794"/>
                </a:moveTo>
                <a:lnTo>
                  <a:pt x="26403" y="10800"/>
                </a:lnTo>
                <a:lnTo>
                  <a:pt x="12390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0880" y="228600"/>
            <a:ext cx="807732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Now it is time for you to explore Native Americans on your 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880" y="2209680"/>
            <a:ext cx="784872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Use the buttons on the next slide to complete your hand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0880" y="4114800"/>
            <a:ext cx="7391520" cy="22885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After finishing the questions, do the quick write about what you 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Comic Sans MS"/>
              </a:rPr>
              <a:t>LEARNED</a:t>
            </a: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 about Native Ameri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7772400" y="6094440"/>
            <a:ext cx="1371600" cy="7635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38792" h="21600">
                <a:moveTo>
                  <a:pt x="0" y="0"/>
                </a:moveTo>
                <a:lnTo>
                  <a:pt x="38792" y="0"/>
                </a:lnTo>
                <a:lnTo>
                  <a:pt x="38792" y="21600"/>
                </a:lnTo>
                <a:lnTo>
                  <a:pt x="0" y="21600"/>
                </a:lnTo>
                <a:close/>
              </a:path>
              <a:path fill="lightenLess" w="38792" h="21600">
                <a:moveTo>
                  <a:pt x="0" y="0"/>
                </a:moveTo>
                <a:lnTo>
                  <a:pt x="38792" y="0"/>
                </a:lnTo>
                <a:lnTo>
                  <a:pt x="37392" y="1400"/>
                </a:lnTo>
                <a:lnTo>
                  <a:pt x="1400" y="1400"/>
                </a:lnTo>
                <a:close/>
              </a:path>
              <a:path fill="darken" w="38792" h="21600">
                <a:moveTo>
                  <a:pt x="38792" y="0"/>
                </a:moveTo>
                <a:lnTo>
                  <a:pt x="38792" y="21600"/>
                </a:lnTo>
                <a:lnTo>
                  <a:pt x="37392" y="20200"/>
                </a:lnTo>
                <a:lnTo>
                  <a:pt x="37392" y="1400"/>
                </a:lnTo>
                <a:close/>
              </a:path>
              <a:path fill="darkenLess" w="38792" h="21600">
                <a:moveTo>
                  <a:pt x="3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92" y="20200"/>
                </a:lnTo>
                <a:close/>
              </a:path>
              <a:path fill="lighten" w="3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92" h="21600">
                <a:moveTo>
                  <a:pt x="12390" y="3794"/>
                </a:moveTo>
                <a:lnTo>
                  <a:pt x="26403" y="10800"/>
                </a:lnTo>
                <a:lnTo>
                  <a:pt x="12390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981080" y="304920"/>
            <a:ext cx="4496040" cy="1981080"/>
          </a:xfrm>
          <a:custGeom>
            <a:avLst/>
            <a:gdLst>
              <a:gd name="textAreaLeft" fmla="*/ 128160 w 4496040"/>
              <a:gd name="textAreaRight" fmla="*/ 4367880 w 449604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49016" h="21600">
                <a:moveTo>
                  <a:pt x="0" y="0"/>
                </a:moveTo>
                <a:lnTo>
                  <a:pt x="49016" y="0"/>
                </a:lnTo>
                <a:lnTo>
                  <a:pt x="49016" y="21600"/>
                </a:lnTo>
                <a:lnTo>
                  <a:pt x="0" y="21600"/>
                </a:lnTo>
                <a:close/>
              </a:path>
              <a:path fill="lightenLess" w="49016" h="21600">
                <a:moveTo>
                  <a:pt x="0" y="0"/>
                </a:moveTo>
                <a:lnTo>
                  <a:pt x="49016" y="0"/>
                </a:lnTo>
                <a:lnTo>
                  <a:pt x="47616" y="1400"/>
                </a:lnTo>
                <a:lnTo>
                  <a:pt x="1400" y="1400"/>
                </a:lnTo>
                <a:close/>
              </a:path>
              <a:path fill="darken" w="49016" h="21600">
                <a:moveTo>
                  <a:pt x="49016" y="0"/>
                </a:moveTo>
                <a:lnTo>
                  <a:pt x="49016" y="21600"/>
                </a:lnTo>
                <a:lnTo>
                  <a:pt x="47616" y="20200"/>
                </a:lnTo>
                <a:lnTo>
                  <a:pt x="47616" y="1400"/>
                </a:lnTo>
                <a:close/>
              </a:path>
              <a:path fill="darkenLess" w="49016" h="21600">
                <a:moveTo>
                  <a:pt x="4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16" y="20200"/>
                </a:lnTo>
                <a:close/>
              </a:path>
              <a:path fill="lighten" w="4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omic Sans MS"/>
              </a:rPr>
              <a:t>Cherok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981080" y="4800600"/>
            <a:ext cx="4496040" cy="1981080"/>
          </a:xfrm>
          <a:custGeom>
            <a:avLst/>
            <a:gdLst>
              <a:gd name="textAreaLeft" fmla="*/ 128160 w 4496040"/>
              <a:gd name="textAreaRight" fmla="*/ 4367880 w 449604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49016" h="21600">
                <a:moveTo>
                  <a:pt x="0" y="0"/>
                </a:moveTo>
                <a:lnTo>
                  <a:pt x="49016" y="0"/>
                </a:lnTo>
                <a:lnTo>
                  <a:pt x="49016" y="21600"/>
                </a:lnTo>
                <a:lnTo>
                  <a:pt x="0" y="21600"/>
                </a:lnTo>
                <a:close/>
              </a:path>
              <a:path fill="lightenLess" w="49016" h="21600">
                <a:moveTo>
                  <a:pt x="0" y="0"/>
                </a:moveTo>
                <a:lnTo>
                  <a:pt x="49016" y="0"/>
                </a:lnTo>
                <a:lnTo>
                  <a:pt x="47616" y="1400"/>
                </a:lnTo>
                <a:lnTo>
                  <a:pt x="1400" y="1400"/>
                </a:lnTo>
                <a:close/>
              </a:path>
              <a:path fill="darken" w="49016" h="21600">
                <a:moveTo>
                  <a:pt x="49016" y="0"/>
                </a:moveTo>
                <a:lnTo>
                  <a:pt x="49016" y="21600"/>
                </a:lnTo>
                <a:lnTo>
                  <a:pt x="47616" y="20200"/>
                </a:lnTo>
                <a:lnTo>
                  <a:pt x="47616" y="1400"/>
                </a:lnTo>
                <a:close/>
              </a:path>
              <a:path fill="darkenLess" w="49016" h="21600">
                <a:moveTo>
                  <a:pt x="4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16" y="20200"/>
                </a:lnTo>
                <a:close/>
              </a:path>
              <a:path fill="lighten" w="4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omic Sans MS"/>
              </a:rPr>
              <a:t>Nav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57400" y="2514600"/>
            <a:ext cx="4495680" cy="1981080"/>
          </a:xfrm>
          <a:custGeom>
            <a:avLst/>
            <a:gdLst>
              <a:gd name="textAreaLeft" fmla="*/ 128160 w 4495680"/>
              <a:gd name="textAreaRight" fmla="*/ 4367520 w 449568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49012" h="21600">
                <a:moveTo>
                  <a:pt x="0" y="0"/>
                </a:moveTo>
                <a:lnTo>
                  <a:pt x="49012" y="0"/>
                </a:lnTo>
                <a:lnTo>
                  <a:pt x="49012" y="21600"/>
                </a:lnTo>
                <a:lnTo>
                  <a:pt x="0" y="21600"/>
                </a:lnTo>
                <a:close/>
              </a:path>
              <a:path fill="lightenLess" w="49012" h="21600">
                <a:moveTo>
                  <a:pt x="0" y="0"/>
                </a:moveTo>
                <a:lnTo>
                  <a:pt x="49012" y="0"/>
                </a:lnTo>
                <a:lnTo>
                  <a:pt x="47612" y="1400"/>
                </a:lnTo>
                <a:lnTo>
                  <a:pt x="1400" y="1400"/>
                </a:lnTo>
                <a:close/>
              </a:path>
              <a:path fill="darken" w="49012" h="21600">
                <a:moveTo>
                  <a:pt x="49012" y="0"/>
                </a:moveTo>
                <a:lnTo>
                  <a:pt x="49012" y="21600"/>
                </a:lnTo>
                <a:lnTo>
                  <a:pt x="47612" y="20200"/>
                </a:lnTo>
                <a:lnTo>
                  <a:pt x="47612" y="1400"/>
                </a:lnTo>
                <a:close/>
              </a:path>
              <a:path fill="darkenLess" w="49012" h="21600">
                <a:moveTo>
                  <a:pt x="49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12" y="20200"/>
                </a:lnTo>
                <a:close/>
              </a:path>
              <a:path fill="lighten" w="49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omic Sans MS"/>
              </a:rPr>
              <a:t>Iroquo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0:50:43Z</dcterms:created>
  <dc:creator>Samantha Weil</dc:creator>
  <dc:description/>
  <dc:language>en-US</dc:language>
  <cp:lastModifiedBy>Samantha Weil</cp:lastModifiedBy>
  <dcterms:modified xsi:type="dcterms:W3CDTF">2009-04-12T19:58:22Z</dcterms:modified>
  <cp:revision>3</cp:revision>
  <dc:subject/>
  <dc:title>PowerPoint Presentation</dc:title>
</cp:coreProperties>
</file>